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A7AAB-DEEF-4540-A5F1-F0721CD1C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A2D61-D4E6-4928-9A9F-796E6D058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39DC9-3F13-49C1-991A-23BD50A51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D1268-0626-4E52-8FAB-4ED42A1CA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74CEA-9EB0-4DF6-910D-31BB5793E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F3565-CFF2-49BA-A40C-54C4485C9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B026B-52BB-4927-803C-3E792E94D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30B6F-2F40-4D2A-B07E-3FE227F32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0E9F9-7E57-481C-BB2F-C6151E23A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08AFC-170E-4B04-A08F-BF54BBBA3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5008-A882-4EDF-93BF-CCA7C5B47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90A6-09F8-4875-AD92-18223AA6B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2D37-5C78-43BC-93FC-2D0955C90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2:51:17Z</dcterms:modified>
  <cp:revision>42</cp:revision>
  <dc:subject/>
  <dc:title>SALARIUL</dc:title>
</cp:coreProperties>
</file>